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A55-4CF4-440C-8A9C-DB306628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ECB-2AA9-486E-95E6-4D283215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A1B-524D-412C-B31D-59519D18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C2E-8D66-4973-9C42-9ED29F11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FE8-2DB2-4591-8DB2-D2AB4C13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D6C-1BB5-410B-AAD0-F711E1BD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786-E973-4354-8EFA-1DCAB5C7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9FC-7897-4283-9D90-8DDCAC33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B24-9852-4E6E-92E3-6DED58A6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F85-1067-45CB-B133-469B5AAD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01F-D9EF-4945-80B8-3690C3CE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14E-22C2-4840-A46D-077340C9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2879-1023-42D6-A8B8-18306BEB7E7D}" type="slidenum">
              <a:rPr b="1" lang="en-GB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74760" y="134136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Verdana"/>
              </a:rPr>
              <a:t>Insert/ Update expected ship call da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74760" y="1089000"/>
            <a:ext cx="8269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 application&gt;Notify/update expected ship call&gt;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Step 2: Insert/ Update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235400" y="22845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183280" y="228276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886040" y="261288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MACA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886040" y="2854440"/>
            <a:ext cx="1512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2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635280" y="262404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635280" y="288144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9/7/2009 </a:t>
            </a:r>
            <a:r>
              <a:rPr b="1" lang="en-GB" sz="900" spc="-1" strike="noStrike">
                <a:solidFill>
                  <a:srgbClr val="3333cc"/>
                </a:solidFill>
                <a:latin typeface="Verdana"/>
              </a:rPr>
              <a:t>2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732720" y="264780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ESAL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671976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6719760" y="2876400"/>
            <a:ext cx="1452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11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3635280" y="3102120"/>
            <a:ext cx="4392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2"/>
          <p:cNvSpPr/>
          <p:nvPr/>
        </p:nvSpPr>
        <p:spPr>
          <a:xfrm>
            <a:off x="5183280" y="225900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5"/>
          <p:cNvSpPr/>
          <p:nvPr/>
        </p:nvSpPr>
        <p:spPr>
          <a:xfrm>
            <a:off x="7715160" y="612936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7632720" y="582768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8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9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cc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4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5"/>
          <p:cNvSpPr/>
          <p:nvPr/>
        </p:nvSpPr>
        <p:spPr>
          <a:xfrm>
            <a:off x="4672080" y="5827680"/>
            <a:ext cx="273060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6"/>
          <p:cNvSpPr/>
          <p:nvPr/>
        </p:nvSpPr>
        <p:spPr>
          <a:xfrm>
            <a:off x="4672080" y="5875200"/>
            <a:ext cx="281916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(All ships arriving from a non EU port carrying dangerous goods)</a:t>
            </a: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7"/>
          <p:cNvSpPr/>
          <p:nvPr/>
        </p:nvSpPr>
        <p:spPr>
          <a:xfrm>
            <a:off x="4943520" y="637380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Enter/ update Hazmat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58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84" name="Text Box 59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60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61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62"/>
          <p:cNvGrpSpPr/>
          <p:nvPr/>
        </p:nvGrpSpPr>
        <p:grpSpPr>
          <a:xfrm>
            <a:off x="1049400" y="2284560"/>
            <a:ext cx="3186000" cy="246240"/>
            <a:chOff x="1049400" y="2284560"/>
            <a:chExt cx="3186000" cy="246240"/>
          </a:xfrm>
        </p:grpSpPr>
        <p:sp>
          <p:nvSpPr>
            <p:cNvPr id="88" name="Text Box 63"/>
            <p:cNvSpPr/>
            <p:nvPr/>
          </p:nvSpPr>
          <p:spPr>
            <a:xfrm>
              <a:off x="1049400" y="228456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64"/>
            <p:cNvSpPr/>
            <p:nvPr/>
          </p:nvSpPr>
          <p:spPr>
            <a:xfrm>
              <a:off x="2116080" y="230040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65"/>
            <p:cNvSpPr/>
            <p:nvPr/>
          </p:nvSpPr>
          <p:spPr>
            <a:xfrm>
              <a:off x="2116080" y="228456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 Box 67"/>
          <p:cNvSpPr/>
          <p:nvPr/>
        </p:nvSpPr>
        <p:spPr>
          <a:xfrm>
            <a:off x="7488360" y="6496200"/>
            <a:ext cx="850680" cy="200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8"/>
          <p:cNvGrpSpPr/>
          <p:nvPr/>
        </p:nvGrpSpPr>
        <p:grpSpPr>
          <a:xfrm>
            <a:off x="506520" y="3365640"/>
            <a:ext cx="7866000" cy="2368440"/>
            <a:chOff x="506520" y="3365640"/>
            <a:chExt cx="7866000" cy="2368440"/>
          </a:xfrm>
        </p:grpSpPr>
        <p:sp>
          <p:nvSpPr>
            <p:cNvPr id="93" name="AutoShape 69"/>
            <p:cNvSpPr/>
            <p:nvPr/>
          </p:nvSpPr>
          <p:spPr>
            <a:xfrm>
              <a:off x="511200" y="3365640"/>
              <a:ext cx="7861320" cy="236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b6b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70"/>
            <p:cNvSpPr/>
            <p:nvPr/>
          </p:nvSpPr>
          <p:spPr>
            <a:xfrm>
              <a:off x="596880" y="4106880"/>
              <a:ext cx="160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Expected to birth at anchorage?  (Y/N)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71"/>
            <p:cNvSpPr/>
            <p:nvPr/>
          </p:nvSpPr>
          <p:spPr>
            <a:xfrm>
              <a:off x="622440" y="3670200"/>
              <a:ext cx="15890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Ship configuration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72"/>
            <p:cNvSpPr/>
            <p:nvPr/>
          </p:nvSpPr>
          <p:spPr>
            <a:xfrm>
              <a:off x="2995560" y="3670200"/>
              <a:ext cx="1374840" cy="550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Verdana"/>
                </a:rPr>
                <a:t>(For tankers)</a:t>
              </a: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 Nature and volume of cargo: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73"/>
            <p:cNvSpPr/>
            <p:nvPr/>
          </p:nvSpPr>
          <p:spPr>
            <a:xfrm>
              <a:off x="2190600" y="4106880"/>
              <a:ext cx="67320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N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74"/>
            <p:cNvSpPr/>
            <p:nvPr/>
          </p:nvSpPr>
          <p:spPr>
            <a:xfrm>
              <a:off x="2190600" y="3670200"/>
              <a:ext cx="6732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DH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75"/>
            <p:cNvSpPr/>
            <p:nvPr/>
          </p:nvSpPr>
          <p:spPr>
            <a:xfrm>
              <a:off x="4602240" y="3670200"/>
              <a:ext cx="34178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76"/>
            <p:cNvSpPr/>
            <p:nvPr/>
          </p:nvSpPr>
          <p:spPr>
            <a:xfrm>
              <a:off x="3036960" y="4314960"/>
              <a:ext cx="1374840" cy="477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Verdana"/>
                </a:rPr>
                <a:t>(All ships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Planned works 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77"/>
            <p:cNvSpPr/>
            <p:nvPr/>
          </p:nvSpPr>
          <p:spPr>
            <a:xfrm>
              <a:off x="4608360" y="4272120"/>
              <a:ext cx="34196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8"/>
            <p:cNvSpPr/>
            <p:nvPr/>
          </p:nvSpPr>
          <p:spPr>
            <a:xfrm>
              <a:off x="2363760" y="4846680"/>
              <a:ext cx="21589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Planned operation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9"/>
            <p:cNvSpPr/>
            <p:nvPr/>
          </p:nvSpPr>
          <p:spPr>
            <a:xfrm>
              <a:off x="4600440" y="4846680"/>
              <a:ext cx="3419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80"/>
            <p:cNvSpPr/>
            <p:nvPr/>
          </p:nvSpPr>
          <p:spPr>
            <a:xfrm>
              <a:off x="506520" y="3416400"/>
              <a:ext cx="658152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(3-days before arrival) PSC inspection information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Verdana"/>
                </a:rPr>
                <a:t>(All ships bound for extended inspection)</a:t>
              </a: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81"/>
            <p:cNvSpPr/>
            <p:nvPr/>
          </p:nvSpPr>
          <p:spPr>
            <a:xfrm>
              <a:off x="7547040" y="3416400"/>
              <a:ext cx="5173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Sav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82"/>
            <p:cNvSpPr/>
            <p:nvPr/>
          </p:nvSpPr>
          <p:spPr>
            <a:xfrm>
              <a:off x="6964200" y="3416400"/>
              <a:ext cx="62388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Rese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83"/>
            <p:cNvSpPr/>
            <p:nvPr/>
          </p:nvSpPr>
          <p:spPr>
            <a:xfrm>
              <a:off x="704880" y="5187960"/>
              <a:ext cx="215892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Conditions of cargo and ballast tank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84"/>
            <p:cNvSpPr/>
            <p:nvPr/>
          </p:nvSpPr>
          <p:spPr>
            <a:xfrm>
              <a:off x="2962440" y="5329080"/>
              <a:ext cx="5057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AutoShape 85"/>
          <p:cNvSpPr/>
          <p:nvPr/>
        </p:nvSpPr>
        <p:spPr>
          <a:xfrm rot="19231800">
            <a:off x="3011040" y="5679720"/>
            <a:ext cx="588960" cy="471600"/>
          </a:xfrm>
          <a:prstGeom prst="leftArrow">
            <a:avLst>
              <a:gd name="adj1" fmla="val 50000"/>
              <a:gd name="adj2" fmla="val 124885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7770000"/>
          </a:gra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6"/>
          <p:cNvSpPr/>
          <p:nvPr/>
        </p:nvSpPr>
        <p:spPr>
          <a:xfrm>
            <a:off x="596880" y="646920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7"/>
          <p:cNvSpPr/>
          <p:nvPr/>
        </p:nvSpPr>
        <p:spPr>
          <a:xfrm>
            <a:off x="4915080" y="6348240"/>
            <a:ext cx="2385720" cy="28584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8"/>
          <p:cNvSpPr/>
          <p:nvPr/>
        </p:nvSpPr>
        <p:spPr>
          <a:xfrm rot="2395800">
            <a:off x="6816240" y="5555880"/>
            <a:ext cx="6746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cc3300"/>
                </a:solidFill>
                <a:latin typeface="Wingdings"/>
                <a:ea typeface="Wingdings"/>
              </a:rPr>
              <a:t>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9"/>
          <p:cNvSpPr/>
          <p:nvPr/>
        </p:nvSpPr>
        <p:spPr>
          <a:xfrm>
            <a:off x="6005520" y="180324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Cancel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6"/>
          <p:cNvSpPr/>
          <p:nvPr/>
        </p:nvSpPr>
        <p:spPr>
          <a:xfrm rot="18958800">
            <a:off x="4717800" y="2513160"/>
            <a:ext cx="560160" cy="412560"/>
          </a:xfrm>
          <a:prstGeom prst="leftArrow">
            <a:avLst>
              <a:gd name="adj1" fmla="val 50000"/>
              <a:gd name="adj2" fmla="val 235024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8040000"/>
          </a:gra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remove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18519E-006 L -0.01962 0.03149 E">
                                      <p:cBhvr>
                                        <p:cTn id="19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374760" y="136368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01560" y="1620720"/>
            <a:ext cx="6945480" cy="64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Verdana"/>
              </a:rPr>
              <a:t>Insert/ Update Hazmat information </a:t>
            </a:r>
            <a:r>
              <a:rPr b="1" lang="en-GB" sz="1200" spc="-1" strike="noStrike">
                <a:solidFill>
                  <a:srgbClr val="0099ff"/>
                </a:solidFill>
                <a:latin typeface="Verdana"/>
              </a:rPr>
              <a:t>(arrivals from non EU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17440" y="1089000"/>
            <a:ext cx="87692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b2b2b2"/>
                </a:solidFill>
                <a:latin typeface="Verdana"/>
              </a:rPr>
              <a:t>&gt;M.S D.Pr. application&gt;Notify/update expected ship call&gt;Step 2: Insert/ Update expected ship call</a:t>
            </a:r>
            <a:r>
              <a:rPr b="1" lang="en-GB" sz="900" spc="-1" strike="noStrike">
                <a:solidFill>
                  <a:srgbClr val="ff9933"/>
                </a:solidFill>
                <a:latin typeface="Verdana"/>
              </a:rPr>
              <a:t>&gt;Insert/update HAZMAT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235400" y="204480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183280" y="203832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74760" y="2600280"/>
            <a:ext cx="2325600" cy="246240"/>
            <a:chOff x="374760" y="2600280"/>
            <a:chExt cx="2325600" cy="246240"/>
          </a:xfrm>
        </p:grpSpPr>
        <p:sp>
          <p:nvSpPr>
            <p:cNvPr id="121" name="Text Box 8"/>
            <p:cNvSpPr/>
            <p:nvPr/>
          </p:nvSpPr>
          <p:spPr>
            <a:xfrm>
              <a:off x="374760" y="2600280"/>
              <a:ext cx="1511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Last Port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1886040" y="2631960"/>
              <a:ext cx="814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1886040" y="2612880"/>
              <a:ext cx="6699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MACA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Text Box 11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1886040" y="2886120"/>
            <a:ext cx="1307880" cy="209520"/>
          </a:xfrm>
          <a:prstGeom prst="rect">
            <a:avLst/>
          </a:prstGeom>
          <a:solidFill>
            <a:srgbClr val="b3b3b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1889280" y="2879640"/>
            <a:ext cx="14778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2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3635280" y="262404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3635280" y="287640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9/7/2009 2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3622680" y="3121200"/>
            <a:ext cx="4392720" cy="209520"/>
          </a:xfrm>
          <a:prstGeom prst="rect">
            <a:avLst/>
          </a:prstGeom>
          <a:solidFill>
            <a:srgbClr val="b3b3b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6696000" y="2647800"/>
            <a:ext cx="7066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ESAL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6719760" y="2876400"/>
            <a:ext cx="14526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6719760" y="2870280"/>
            <a:ext cx="145260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11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2"/>
          <p:cNvSpPr/>
          <p:nvPr/>
        </p:nvSpPr>
        <p:spPr>
          <a:xfrm>
            <a:off x="4140360" y="3100320"/>
            <a:ext cx="45370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5183280" y="20192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34"/>
          <p:cNvSpPr/>
          <p:nvPr/>
        </p:nvSpPr>
        <p:spPr>
          <a:xfrm>
            <a:off x="511200" y="3365640"/>
            <a:ext cx="7661160" cy="23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5"/>
          <p:cNvSpPr/>
          <p:nvPr/>
        </p:nvSpPr>
        <p:spPr>
          <a:xfrm>
            <a:off x="588960" y="4422600"/>
            <a:ext cx="1601640" cy="70308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Classification of dangerous goods per IMO (multiple entry possible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609480" y="3868560"/>
            <a:ext cx="1589040" cy="398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Hazmat in board?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7"/>
          <p:cNvSpPr/>
          <p:nvPr/>
        </p:nvSpPr>
        <p:spPr>
          <a:xfrm>
            <a:off x="2274840" y="43624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IMD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8"/>
          <p:cNvSpPr/>
          <p:nvPr/>
        </p:nvSpPr>
        <p:spPr>
          <a:xfrm>
            <a:off x="2274840" y="385920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9"/>
          <p:cNvSpPr/>
          <p:nvPr/>
        </p:nvSpPr>
        <p:spPr>
          <a:xfrm>
            <a:off x="706320" y="3416400"/>
            <a:ext cx="65818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(All ships arriving from a Non EU port )</a:t>
            </a: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0"/>
          <p:cNvSpPr/>
          <p:nvPr/>
        </p:nvSpPr>
        <p:spPr>
          <a:xfrm>
            <a:off x="7715160" y="618012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1"/>
          <p:cNvSpPr/>
          <p:nvPr/>
        </p:nvSpPr>
        <p:spPr>
          <a:xfrm>
            <a:off x="7288200" y="3416400"/>
            <a:ext cx="517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7626240" y="582768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3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5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6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6464160" y="34164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9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2274840" y="46162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Verdana"/>
              </a:rPr>
              <a:t>MARPOL_ANNEX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2274840" y="487044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2274840" y="512460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2274840" y="540864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4"/>
          <p:cNvSpPr/>
          <p:nvPr/>
        </p:nvSpPr>
        <p:spPr>
          <a:xfrm>
            <a:off x="4356000" y="3716280"/>
            <a:ext cx="3605400" cy="194616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55"/>
          <p:cNvSpPr/>
          <p:nvPr/>
        </p:nvSpPr>
        <p:spPr>
          <a:xfrm>
            <a:off x="4465800" y="5124600"/>
            <a:ext cx="3419280" cy="45216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4541760" y="5180040"/>
            <a:ext cx="341964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tep (2):</a:t>
            </a: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  Provide URL  of cargo manifest or the contact details of the Cargo Manifest provide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7"/>
          <p:cNvSpPr/>
          <p:nvPr/>
        </p:nvSpPr>
        <p:spPr>
          <a:xfrm>
            <a:off x="4421160" y="3800520"/>
            <a:ext cx="3463920" cy="121284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58"/>
          <p:cNvSpPr/>
          <p:nvPr/>
        </p:nvSpPr>
        <p:spPr>
          <a:xfrm>
            <a:off x="4525920" y="4044960"/>
            <a:ext cx="3264120" cy="50472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4525920" y="4000680"/>
            <a:ext cx="3187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1a. Provide URL of the HAZMAT declaration document  </a:t>
            </a:r>
            <a:r>
              <a:rPr b="0" lang="en-GB" sz="1000" spc="-1" strike="noStrike" u="sng">
                <a:solidFill>
                  <a:srgbClr val="ffffff"/>
                </a:solidFill>
                <a:uFillTx/>
                <a:latin typeface="Verdana"/>
              </a:rPr>
              <a:t>or</a:t>
            </a: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 contact details of the data provider of Hazmat declaration detai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60"/>
          <p:cNvSpPr/>
          <p:nvPr/>
        </p:nvSpPr>
        <p:spPr>
          <a:xfrm>
            <a:off x="4541760" y="4616280"/>
            <a:ext cx="3264120" cy="24480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4541760" y="4616280"/>
            <a:ext cx="3187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1b. Provide Hazmat declaration detai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62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76" name="Text Box 63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4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5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Text Box 66"/>
          <p:cNvSpPr/>
          <p:nvPr/>
        </p:nvSpPr>
        <p:spPr>
          <a:xfrm>
            <a:off x="4535640" y="3800520"/>
            <a:ext cx="36367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tep (1): </a:t>
            </a: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[Choice (</a:t>
            </a:r>
            <a:r>
              <a:rPr b="0" i="1" lang="en-GB" sz="1000" spc="-1" strike="noStrike">
                <a:solidFill>
                  <a:srgbClr val="ffffff"/>
                </a:solidFill>
                <a:latin typeface="Verdana"/>
              </a:rPr>
              <a:t>(1a) or (1b)</a:t>
            </a: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)]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67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181" name="Text Box 68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69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0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 Box 71"/>
          <p:cNvSpPr/>
          <p:nvPr/>
        </p:nvSpPr>
        <p:spPr>
          <a:xfrm>
            <a:off x="5651640" y="2355840"/>
            <a:ext cx="23763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Update  Pre-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72"/>
          <p:cNvSpPr/>
          <p:nvPr/>
        </p:nvSpPr>
        <p:spPr>
          <a:xfrm rot="13917600">
            <a:off x="892800" y="3867840"/>
            <a:ext cx="1789200" cy="190440"/>
          </a:xfrm>
          <a:prstGeom prst="leftArrow">
            <a:avLst>
              <a:gd name="adj1" fmla="val 50000"/>
              <a:gd name="adj2" fmla="val 23487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13080000"/>
          </a:gra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3"/>
          <p:cNvSpPr/>
          <p:nvPr/>
        </p:nvSpPr>
        <p:spPr>
          <a:xfrm>
            <a:off x="7488360" y="6496200"/>
            <a:ext cx="850680" cy="2156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/>
          <p:cNvSpPr/>
          <p:nvPr/>
        </p:nvSpPr>
        <p:spPr>
          <a:xfrm>
            <a:off x="189000" y="140796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Verdana"/>
              </a:rPr>
              <a:t>Expected ship call (pre-arriva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74760" y="1089000"/>
            <a:ext cx="8269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.  application&gt;Notify/update expected ship call&gt;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Step 2: Expected ship call (pre-arriva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235400" y="22478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183280" y="223848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1886040" y="261288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MACA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886040" y="2867040"/>
            <a:ext cx="15904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2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3193920" y="2876400"/>
            <a:ext cx="5079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3635280" y="2593800"/>
            <a:ext cx="130824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633840" y="2595600"/>
            <a:ext cx="1307880" cy="231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3637080" y="2886120"/>
            <a:ext cx="1307880" cy="231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9/7/2009 </a:t>
            </a:r>
            <a:r>
              <a:rPr b="1" lang="en-GB" sz="900" spc="-1" strike="noStrike">
                <a:solidFill>
                  <a:srgbClr val="3333cc"/>
                </a:solidFill>
                <a:latin typeface="Verdana"/>
              </a:rPr>
              <a:t>2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6732720" y="264780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ESAL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671976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6719760" y="2876400"/>
            <a:ext cx="1452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11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1"/>
          <p:cNvSpPr/>
          <p:nvPr/>
        </p:nvSpPr>
        <p:spPr>
          <a:xfrm>
            <a:off x="3635280" y="3102120"/>
            <a:ext cx="4392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2"/>
          <p:cNvSpPr/>
          <p:nvPr/>
        </p:nvSpPr>
        <p:spPr>
          <a:xfrm>
            <a:off x="5183280" y="22226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7669080" y="616572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7596360" y="584208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35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8"/>
          <p:cNvSpPr/>
          <p:nvPr/>
        </p:nvSpPr>
        <p:spPr>
          <a:xfrm>
            <a:off x="2363760" y="6129360"/>
            <a:ext cx="6732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cc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9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0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1"/>
          <p:cNvSpPr/>
          <p:nvPr/>
        </p:nvSpPr>
        <p:spPr>
          <a:xfrm>
            <a:off x="4672080" y="5827680"/>
            <a:ext cx="273060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2"/>
          <p:cNvSpPr/>
          <p:nvPr/>
        </p:nvSpPr>
        <p:spPr>
          <a:xfrm>
            <a:off x="4672080" y="5875200"/>
            <a:ext cx="281916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(All ships arriving from a non EU port carrying dangerous goods)</a:t>
            </a: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3"/>
          <p:cNvSpPr/>
          <p:nvPr/>
        </p:nvSpPr>
        <p:spPr>
          <a:xfrm>
            <a:off x="4943520" y="637380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Enter / update Hazmat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44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230" name="Text Box 45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46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47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48"/>
          <p:cNvGrpSpPr/>
          <p:nvPr/>
        </p:nvGrpSpPr>
        <p:grpSpPr>
          <a:xfrm>
            <a:off x="1049400" y="2247840"/>
            <a:ext cx="3186000" cy="246240"/>
            <a:chOff x="1049400" y="2247840"/>
            <a:chExt cx="3186000" cy="246240"/>
          </a:xfrm>
        </p:grpSpPr>
        <p:sp>
          <p:nvSpPr>
            <p:cNvPr id="234" name="Text Box 49"/>
            <p:cNvSpPr/>
            <p:nvPr/>
          </p:nvSpPr>
          <p:spPr>
            <a:xfrm>
              <a:off x="1049400" y="224784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0"/>
            <p:cNvSpPr/>
            <p:nvPr/>
          </p:nvSpPr>
          <p:spPr>
            <a:xfrm>
              <a:off x="2116080" y="226368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51"/>
            <p:cNvSpPr/>
            <p:nvPr/>
          </p:nvSpPr>
          <p:spPr>
            <a:xfrm>
              <a:off x="2116080" y="224784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53"/>
          <p:cNvGrpSpPr/>
          <p:nvPr/>
        </p:nvGrpSpPr>
        <p:grpSpPr>
          <a:xfrm>
            <a:off x="506520" y="3365640"/>
            <a:ext cx="7866000" cy="2368440"/>
            <a:chOff x="506520" y="3365640"/>
            <a:chExt cx="7866000" cy="2368440"/>
          </a:xfrm>
        </p:grpSpPr>
        <p:sp>
          <p:nvSpPr>
            <p:cNvPr id="238" name="AutoShape 54"/>
            <p:cNvSpPr/>
            <p:nvPr/>
          </p:nvSpPr>
          <p:spPr>
            <a:xfrm>
              <a:off x="511200" y="3365640"/>
              <a:ext cx="7861320" cy="236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b6b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55"/>
            <p:cNvSpPr/>
            <p:nvPr/>
          </p:nvSpPr>
          <p:spPr>
            <a:xfrm>
              <a:off x="596880" y="4106880"/>
              <a:ext cx="160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Expected to birth at anchorage?  (Y/N)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56"/>
            <p:cNvSpPr/>
            <p:nvPr/>
          </p:nvSpPr>
          <p:spPr>
            <a:xfrm>
              <a:off x="622440" y="3670200"/>
              <a:ext cx="15890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Ship configuration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7"/>
            <p:cNvSpPr/>
            <p:nvPr/>
          </p:nvSpPr>
          <p:spPr>
            <a:xfrm>
              <a:off x="2995560" y="3670200"/>
              <a:ext cx="1374840" cy="550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Verdana"/>
                </a:rPr>
                <a:t>(For tankers)</a:t>
              </a: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 Nature and volume of cargo: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8"/>
            <p:cNvSpPr/>
            <p:nvPr/>
          </p:nvSpPr>
          <p:spPr>
            <a:xfrm>
              <a:off x="2190600" y="4106880"/>
              <a:ext cx="67320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N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9"/>
            <p:cNvSpPr/>
            <p:nvPr/>
          </p:nvSpPr>
          <p:spPr>
            <a:xfrm>
              <a:off x="2190600" y="3670200"/>
              <a:ext cx="6732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DH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60"/>
            <p:cNvSpPr/>
            <p:nvPr/>
          </p:nvSpPr>
          <p:spPr>
            <a:xfrm>
              <a:off x="4602240" y="3670200"/>
              <a:ext cx="34178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1"/>
            <p:cNvSpPr/>
            <p:nvPr/>
          </p:nvSpPr>
          <p:spPr>
            <a:xfrm>
              <a:off x="3036960" y="4314960"/>
              <a:ext cx="1374840" cy="477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Verdana"/>
                </a:rPr>
                <a:t>(All ships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Planned works 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2"/>
            <p:cNvSpPr/>
            <p:nvPr/>
          </p:nvSpPr>
          <p:spPr>
            <a:xfrm>
              <a:off x="4608360" y="4272120"/>
              <a:ext cx="34196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3"/>
            <p:cNvSpPr/>
            <p:nvPr/>
          </p:nvSpPr>
          <p:spPr>
            <a:xfrm>
              <a:off x="2363760" y="4846680"/>
              <a:ext cx="21589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Planned operation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4"/>
            <p:cNvSpPr/>
            <p:nvPr/>
          </p:nvSpPr>
          <p:spPr>
            <a:xfrm>
              <a:off x="4600440" y="4846680"/>
              <a:ext cx="3419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5"/>
            <p:cNvSpPr/>
            <p:nvPr/>
          </p:nvSpPr>
          <p:spPr>
            <a:xfrm>
              <a:off x="506520" y="3416400"/>
              <a:ext cx="658152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(3-days before arrival) PSC inspection information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Verdana"/>
                </a:rPr>
                <a:t>(All ships bound for extended inspection)</a:t>
              </a: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6"/>
            <p:cNvSpPr/>
            <p:nvPr/>
          </p:nvSpPr>
          <p:spPr>
            <a:xfrm>
              <a:off x="7547040" y="3416400"/>
              <a:ext cx="5173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Sav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7"/>
            <p:cNvSpPr/>
            <p:nvPr/>
          </p:nvSpPr>
          <p:spPr>
            <a:xfrm>
              <a:off x="6964200" y="3416400"/>
              <a:ext cx="62388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Rese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8"/>
            <p:cNvSpPr/>
            <p:nvPr/>
          </p:nvSpPr>
          <p:spPr>
            <a:xfrm>
              <a:off x="704880" y="5187960"/>
              <a:ext cx="215892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Conditions of cargo and ballast tank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9"/>
            <p:cNvSpPr/>
            <p:nvPr/>
          </p:nvSpPr>
          <p:spPr>
            <a:xfrm>
              <a:off x="2962440" y="5329080"/>
              <a:ext cx="5057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70"/>
          <p:cNvSpPr/>
          <p:nvPr/>
        </p:nvSpPr>
        <p:spPr>
          <a:xfrm>
            <a:off x="7450200" y="6489720"/>
            <a:ext cx="850680" cy="2156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2"/>
          <p:cNvSpPr/>
          <p:nvPr/>
        </p:nvSpPr>
        <p:spPr>
          <a:xfrm>
            <a:off x="900000" y="661680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3"/>
          <p:cNvSpPr/>
          <p:nvPr/>
        </p:nvSpPr>
        <p:spPr>
          <a:xfrm>
            <a:off x="6005520" y="180324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Cancel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4"/>
          <p:cNvSpPr/>
          <p:nvPr/>
        </p:nvSpPr>
        <p:spPr>
          <a:xfrm>
            <a:off x="5977080" y="1784520"/>
            <a:ext cx="2385720" cy="28548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5"/>
          <p:cNvSpPr/>
          <p:nvPr/>
        </p:nvSpPr>
        <p:spPr>
          <a:xfrm rot="2395800">
            <a:off x="7856280" y="980640"/>
            <a:ext cx="6746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cc3300"/>
                </a:solidFill>
                <a:latin typeface="Wingdings"/>
                <a:ea typeface="Wingdings"/>
              </a:rPr>
              <a:t>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remove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18519E-006 L -0.01962 0.03149 E">
                                      <p:cBhvr>
                                        <p:cTn id="39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4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5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339840" y="138096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Verdana"/>
              </a:rPr>
              <a:t>Expected ship call (pre-arriva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74760" y="1089000"/>
            <a:ext cx="8269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.  application&gt;Notify/update expected ship call&gt;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Step 2: Expected ship call (pre-arriva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4235400" y="22478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183280" y="223848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886040" y="261288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MACA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1873080" y="2854440"/>
            <a:ext cx="15177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2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93920" y="2876400"/>
            <a:ext cx="5079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3635280" y="262728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3635280" y="287640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9/7/2009 2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6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6732720" y="264780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ESAL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671976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6719760" y="2876400"/>
            <a:ext cx="1452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11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3635280" y="3102120"/>
            <a:ext cx="4392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183280" y="22226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7669080" y="62802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7596360" y="595620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35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7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8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0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41"/>
          <p:cNvSpPr/>
          <p:nvPr/>
        </p:nvSpPr>
        <p:spPr>
          <a:xfrm>
            <a:off x="4672080" y="5827680"/>
            <a:ext cx="273060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2"/>
          <p:cNvSpPr/>
          <p:nvPr/>
        </p:nvSpPr>
        <p:spPr>
          <a:xfrm>
            <a:off x="4672080" y="5875200"/>
            <a:ext cx="281916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(All ships arriving from a non EU port carrying dangerous goods)</a:t>
            </a: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3"/>
          <p:cNvSpPr/>
          <p:nvPr/>
        </p:nvSpPr>
        <p:spPr>
          <a:xfrm>
            <a:off x="4943520" y="637380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Enter / update Hazmat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44"/>
          <p:cNvGrpSpPr/>
          <p:nvPr/>
        </p:nvGrpSpPr>
        <p:grpSpPr>
          <a:xfrm>
            <a:off x="5472000" y="1671480"/>
            <a:ext cx="2687400" cy="246240"/>
            <a:chOff x="5472000" y="1671480"/>
            <a:chExt cx="2687400" cy="246240"/>
          </a:xfrm>
        </p:grpSpPr>
        <p:sp>
          <p:nvSpPr>
            <p:cNvPr id="302" name="Text Box 45"/>
            <p:cNvSpPr/>
            <p:nvPr/>
          </p:nvSpPr>
          <p:spPr>
            <a:xfrm>
              <a:off x="5472000" y="16714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46"/>
            <p:cNvSpPr/>
            <p:nvPr/>
          </p:nvSpPr>
          <p:spPr>
            <a:xfrm>
              <a:off x="7149960" y="17031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47"/>
            <p:cNvSpPr/>
            <p:nvPr/>
          </p:nvSpPr>
          <p:spPr>
            <a:xfrm>
              <a:off x="7184880" y="16840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3333cc"/>
                  </a:solidFill>
                  <a:latin typeface="Verdana"/>
                </a:rPr>
                <a:t>ZZCAN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48"/>
          <p:cNvGrpSpPr/>
          <p:nvPr/>
        </p:nvGrpSpPr>
        <p:grpSpPr>
          <a:xfrm>
            <a:off x="1049400" y="2247840"/>
            <a:ext cx="3186000" cy="246240"/>
            <a:chOff x="1049400" y="2247840"/>
            <a:chExt cx="3186000" cy="246240"/>
          </a:xfrm>
        </p:grpSpPr>
        <p:sp>
          <p:nvSpPr>
            <p:cNvPr id="306" name="Text Box 49"/>
            <p:cNvSpPr/>
            <p:nvPr/>
          </p:nvSpPr>
          <p:spPr>
            <a:xfrm>
              <a:off x="1049400" y="224784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50"/>
            <p:cNvSpPr/>
            <p:nvPr/>
          </p:nvSpPr>
          <p:spPr>
            <a:xfrm>
              <a:off x="2116080" y="226368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51"/>
            <p:cNvSpPr/>
            <p:nvPr/>
          </p:nvSpPr>
          <p:spPr>
            <a:xfrm>
              <a:off x="2116080" y="224784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52"/>
          <p:cNvGrpSpPr/>
          <p:nvPr/>
        </p:nvGrpSpPr>
        <p:grpSpPr>
          <a:xfrm>
            <a:off x="506520" y="3365640"/>
            <a:ext cx="7866000" cy="2368440"/>
            <a:chOff x="506520" y="3365640"/>
            <a:chExt cx="7866000" cy="2368440"/>
          </a:xfrm>
        </p:grpSpPr>
        <p:sp>
          <p:nvSpPr>
            <p:cNvPr id="310" name="AutoShape 53"/>
            <p:cNvSpPr/>
            <p:nvPr/>
          </p:nvSpPr>
          <p:spPr>
            <a:xfrm>
              <a:off x="511200" y="3365640"/>
              <a:ext cx="7861320" cy="236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b6b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54"/>
            <p:cNvSpPr/>
            <p:nvPr/>
          </p:nvSpPr>
          <p:spPr>
            <a:xfrm>
              <a:off x="596880" y="4106880"/>
              <a:ext cx="160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Expected to birth at anchorage?  (Y/N)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55"/>
            <p:cNvSpPr/>
            <p:nvPr/>
          </p:nvSpPr>
          <p:spPr>
            <a:xfrm>
              <a:off x="622440" y="3670200"/>
              <a:ext cx="15890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Ship configuration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56"/>
            <p:cNvSpPr/>
            <p:nvPr/>
          </p:nvSpPr>
          <p:spPr>
            <a:xfrm>
              <a:off x="2995560" y="3670200"/>
              <a:ext cx="1374840" cy="550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Verdana"/>
                </a:rPr>
                <a:t>(For tankers)</a:t>
              </a: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 Nature and volume of cargo: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57"/>
            <p:cNvSpPr/>
            <p:nvPr/>
          </p:nvSpPr>
          <p:spPr>
            <a:xfrm>
              <a:off x="2190600" y="4106880"/>
              <a:ext cx="67320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N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58"/>
            <p:cNvSpPr/>
            <p:nvPr/>
          </p:nvSpPr>
          <p:spPr>
            <a:xfrm>
              <a:off x="2190600" y="3670200"/>
              <a:ext cx="6732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DH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59"/>
            <p:cNvSpPr/>
            <p:nvPr/>
          </p:nvSpPr>
          <p:spPr>
            <a:xfrm>
              <a:off x="4602240" y="3670200"/>
              <a:ext cx="34178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60"/>
            <p:cNvSpPr/>
            <p:nvPr/>
          </p:nvSpPr>
          <p:spPr>
            <a:xfrm>
              <a:off x="3036960" y="4314960"/>
              <a:ext cx="1374840" cy="477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Verdana"/>
                </a:rPr>
                <a:t>(All ships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Planned works 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1"/>
            <p:cNvSpPr/>
            <p:nvPr/>
          </p:nvSpPr>
          <p:spPr>
            <a:xfrm>
              <a:off x="4608360" y="4272120"/>
              <a:ext cx="34196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62"/>
            <p:cNvSpPr/>
            <p:nvPr/>
          </p:nvSpPr>
          <p:spPr>
            <a:xfrm>
              <a:off x="2363760" y="4846680"/>
              <a:ext cx="21589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Planned operation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63"/>
            <p:cNvSpPr/>
            <p:nvPr/>
          </p:nvSpPr>
          <p:spPr>
            <a:xfrm>
              <a:off x="4600440" y="4846680"/>
              <a:ext cx="3419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4"/>
            <p:cNvSpPr/>
            <p:nvPr/>
          </p:nvSpPr>
          <p:spPr>
            <a:xfrm>
              <a:off x="506520" y="3416400"/>
              <a:ext cx="658152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(3-days before arrival) PSC inspection information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Verdana"/>
                </a:rPr>
                <a:t>(All ships bound for extended inspection)</a:t>
              </a: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65"/>
            <p:cNvSpPr/>
            <p:nvPr/>
          </p:nvSpPr>
          <p:spPr>
            <a:xfrm>
              <a:off x="7547040" y="3416400"/>
              <a:ext cx="5173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Sav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66"/>
            <p:cNvSpPr/>
            <p:nvPr/>
          </p:nvSpPr>
          <p:spPr>
            <a:xfrm>
              <a:off x="6964200" y="3416400"/>
              <a:ext cx="62388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Rese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67"/>
            <p:cNvSpPr/>
            <p:nvPr/>
          </p:nvSpPr>
          <p:spPr>
            <a:xfrm>
              <a:off x="704880" y="5187960"/>
              <a:ext cx="215892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Conditions of cargo and ballast tank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68"/>
            <p:cNvSpPr/>
            <p:nvPr/>
          </p:nvSpPr>
          <p:spPr>
            <a:xfrm>
              <a:off x="2962440" y="5329080"/>
              <a:ext cx="5057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Text Box 69"/>
          <p:cNvSpPr/>
          <p:nvPr/>
        </p:nvSpPr>
        <p:spPr>
          <a:xfrm>
            <a:off x="900000" y="661680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80808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70"/>
          <p:cNvSpPr/>
          <p:nvPr/>
        </p:nvSpPr>
        <p:spPr>
          <a:xfrm rot="1662600">
            <a:off x="8172000" y="4960440"/>
            <a:ext cx="623880" cy="866880"/>
          </a:xfrm>
          <a:prstGeom prst="downArrow">
            <a:avLst>
              <a:gd name="adj1" fmla="val 50000"/>
              <a:gd name="adj2" fmla="val 34737"/>
            </a:avLst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71"/>
          <p:cNvSpPr/>
          <p:nvPr/>
        </p:nvSpPr>
        <p:spPr>
          <a:xfrm>
            <a:off x="7569360" y="5956200"/>
            <a:ext cx="755640" cy="24444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72"/>
          <p:cNvSpPr/>
          <p:nvPr/>
        </p:nvSpPr>
        <p:spPr>
          <a:xfrm>
            <a:off x="7113600" y="1679400"/>
            <a:ext cx="1058760" cy="24480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73"/>
          <p:cNvSpPr/>
          <p:nvPr/>
        </p:nvSpPr>
        <p:spPr>
          <a:xfrm rot="1662600">
            <a:off x="8015040" y="836280"/>
            <a:ext cx="623880" cy="866880"/>
          </a:xfrm>
          <a:prstGeom prst="downArrow">
            <a:avLst>
              <a:gd name="adj1" fmla="val 50000"/>
              <a:gd name="adj2" fmla="val 34737"/>
            </a:avLst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-0.04213 L 2.22222E-006 -4.07407E-006 E">
                                      <p:cBhvr>
                                        <p:cTn id="61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-0.04213 L 2.22222E-006 -4.07407E-006 E">
                                      <p:cBhvr>
                                        <p:cTn id="71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6-08T10:41:15Z</dcterms:modified>
  <cp:revision>390</cp:revision>
  <dc:subject/>
  <dc:title>Slide 1</dc:title>
</cp:coreProperties>
</file>